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122-E2FD-4F1F-A5A0-88823FC9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507-F5C6-4B15-93AE-AB13C431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6B6-0102-4CA2-842F-A14809DB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8E6-BA43-4AB1-A11C-94426A97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4E5C-448E-4DFD-A85E-42ACC0CE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D9DC-526E-431B-BACF-4A513E04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E1F3-4358-46C9-BA0B-1B9590F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F82-925B-420A-931D-C26F585B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797C-A3F5-474B-889E-A1107EFD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CF6-8CB4-474F-A5E6-563974E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A6F-8A54-4B41-BDEA-E8DC0C1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B93-4F81-44F8-B728-C14A8F13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11A7-8350-4FA0-8034-EFDF302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42F9-2EBB-4A47-9802-42067D3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0263-513B-403F-A63D-66E069C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2307-9741-48AD-8D7E-EAFF0A72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48F-545E-4FE5-8DAA-7AF2AFDE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CBC-9A96-4ECA-A64C-4B1054D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FB6-89EA-469C-9862-E08F4A83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28B-73C4-42F4-BA7F-5C7FA25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30D-43F2-42A1-A494-4BBE748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142-601C-4D3E-A5A1-63B4A8B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E07-D937-4A55-A6D9-31C6BB4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9A6-6739-43C3-93F0-EE3690E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8BAF-36BA-4C43-B19E-3D9C0749D2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309-E671-4AF7-A9B3-F9E40238D8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B.A./B.I.P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m for Eclecticism: Psychodynamic Case Formulation Supported by Cognitive-Behavioral and Systemic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in Point:  Frank N. S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eria for creating the FBA/B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vel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ertransfe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k pushes the bu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servable, measurable behav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seline and frequency da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act on Level Stat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ological Impa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go Dyston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rpetuates Fail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380880" y="380880"/>
          <a:ext cx="84582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dynamic Case Formulation in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apsychic life intimately connected to behavioral manifes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listic without compromi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achment Theory and the Therapeutic Milie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truct of Traumatic Re-Enact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dynamic Case Formulation: Application to Frank N. S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sychosocial context of behav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aumatic Re-Enactment parall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mily of Origin repl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aptive defensive posture for Fra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the emotional need and how do we meet it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P: Psychodynamic Heart and a CBT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sychodynamic case formulation: effect on staff and stud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havioral Incentive: the need as reward – the contingency chan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ynamically: Defense allowed to cope and suppor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ystemically: Re-writing the trauma scrip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52:32Z</dcterms:created>
  <dc:creator>Template</dc:creator>
  <dc:description/>
  <dc:language>en-US</dc:language>
  <cp:lastModifiedBy>lallen</cp:lastModifiedBy>
  <dcterms:modified xsi:type="dcterms:W3CDTF">2010-10-12T19:03:58Z</dcterms:modified>
  <cp:revision>14</cp:revision>
  <dc:subject/>
  <dc:title>F.B.A./B.I.P. </dc:title>
</cp:coreProperties>
</file>